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4A9-AA4D-4620-A8DB-9B92495D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6C6-7F82-41E8-B485-16B09AF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E66-7D2F-4A77-BD4D-1C3C934F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C8E-6F31-430E-94A9-864E12D9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3E1A-C56B-4A14-81F1-81ED452C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BA32-2DDF-4068-A4BF-AFE59528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F64E-C488-4AE4-AEC9-81BD13B3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88CD-DB5B-4172-B581-29E31367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A295-5327-4CDD-AFB8-A9C54D0C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64AB-0058-4B7C-A5B3-E5F72CE9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6C1-0AA7-4A68-8CC8-A06515F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86D-8116-444A-A5E1-B8BE01B7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0C17-2B0C-4A84-9867-E2040150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8F2A-B4DB-4CAD-B7FE-444BA15C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AA7F-D041-49EC-B518-C1FC579E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FCE1-89E7-4529-A9A6-108544ED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89DD-76E5-44C0-90C9-529463C0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181-C3FC-4701-96CA-322DB75C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275-C714-40E5-A181-28B9AD7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EE4-0260-4CD1-9FDD-861C592D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A38-7F4F-44A1-B328-B3DB952B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9D5-713C-424D-A836-7B07D24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8EC-3D67-4BDD-BD8D-57DA1114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4D2-36E4-452A-A54B-E0EF8EA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08DB-90D5-4C8B-AA66-3366F3277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7D9C-6C87-40FF-89EE-63B7EDA63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90;&#1088;&#1099;&#1077;_&#1083;&#1077;&#1081;&#1082;&#1086;&#1079;&#1099;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8;&#1086;&#1085;&#1080;&#1095;&#1077;&#1089;&#1082;&#1080;&#1077;_&#1083;&#1077;&#1081;&#1082;&#1086;&#1079;&#1099;" TargetMode="External"/><Relationship Id="rId2" Type="http://schemas.openxmlformats.org/officeDocument/2006/relationships/hyperlink" Target="http://ru.wikipedia.org/wiki/&#1061;&#1088;&#1086;&#1085;&#1080;&#1095;&#1077;&#1089;&#1082;&#1080;&#1081;_&#1084;&#1080;&#1077;&#1083;&#1086;&#1094;&#1080;&#1090;&#1072;&#1088;&#1085;&#1099;&#1081;_&#1083;&#1077;&#1081;&#1082;&#1086;&#1079;" TargetMode="External"/><Relationship Id="rId3" Type="http://schemas.openxmlformats.org/officeDocument/2006/relationships/hyperlink" Target="http://ru.wikipedia.org/wiki/&#1061;&#1088;&#1086;&#1085;&#1080;&#1095;&#1077;&#1089;&#1082;&#1080;&#1081;_&#1084;&#1080;&#1077;&#1083;&#1086;&#1094;&#1080;&#1090;&#1072;&#1088;&#1085;&#1099;&#1081;_&#1083;&#1077;&#1081;&#1082;&#1086;&#1079;" TargetMode="External"/><Relationship Id="rId4" Type="http://schemas.openxmlformats.org/officeDocument/2006/relationships/hyperlink" Target="http://ru.wikipedia.org/wiki/&#1061;&#1088;&#1086;&#1085;&#1080;&#1095;&#1077;&#1089;&#1082;&#1080;&#1081;_&#1084;&#1080;&#1077;&#1083;&#1086;&#1094;&#1080;&#1090;&#1072;&#1088;&#1085;&#1099;&#1081;_&#1083;&#1077;&#1081;&#1082;&#1086;&#1079;" TargetMode="External"/><Relationship Id="rId5" Type="http://schemas.openxmlformats.org/officeDocument/2006/relationships/hyperlink" Target="http://ru.wikipedia.org/w/index.php?title=&#1061;&#1088;&#1086;&#1085;&#1080;&#1095;&#1077;&#1089;&#1082;&#1080;&#1081;_&#1085;&#1077;&#1081;&#1090;&#1088;&#1086;&#1092;&#1080;&#1083;&#1100;&#1085;&#1099;&#1081;_&#1083;&#1077;&#1081;&#1082;&#1086;&#1079;&amp;action=edit&amp;redlink=1" TargetMode="External"/><Relationship Id="rId6" Type="http://schemas.openxmlformats.org/officeDocument/2006/relationships/hyperlink" Target="http://ru.wikipedia.org/w/index.php?title=&#1061;&#1088;&#1086;&#1085;&#1080;&#1095;&#1077;&#1089;&#1082;&#1080;&#1081;_&#1085;&#1077;&#1081;&#1090;&#1088;&#1086;&#1092;&#1080;&#1083;&#1100;&#1085;&#1099;&#1081;_&#1083;&#1077;&#1081;&#1082;&#1086;&#1079;&amp;action=edit&amp;redlink=1" TargetMode="External"/><Relationship Id="rId7" Type="http://schemas.openxmlformats.org/officeDocument/2006/relationships/hyperlink" Target="http://ru.wikipedia.org/w/index.php?title=&#1061;&#1088;&#1086;&#1085;&#1080;&#1095;&#1077;&#1089;&#1082;&#1080;&#1081;_&#1085;&#1077;&#1081;&#1090;&#1088;&#1086;&#1092;&#1080;&#1083;&#1100;&#1085;&#1099;&#1081;_&#1083;&#1077;&#1081;&#1082;&#1086;&#1079;&amp;action=edit&amp;redlink=1" TargetMode="External"/><Relationship Id="rId8" Type="http://schemas.openxmlformats.org/officeDocument/2006/relationships/hyperlink" Target="http://ru.wikipedia.org/w/index.php?title=&#1061;&#1088;&#1086;&#1085;&#1080;&#1095;&#1077;&#1089;&#1082;&#1080;&#1081;_&#1101;&#1086;&#1079;&#1080;&#1085;&#1086;&#1092;&#1080;&#1083;&#1100;&#1085;&#1099;&#1081;_&#1083;&#1077;&#1081;&#1082;&#1086;&#1079;&amp;action=edit&amp;redlink=1" TargetMode="External"/><Relationship Id="rId9" Type="http://schemas.openxmlformats.org/officeDocument/2006/relationships/hyperlink" Target="http://ru.wikipedia.org/w/index.php?title=&#1061;&#1088;&#1086;&#1085;&#1080;&#1095;&#1077;&#1089;&#1082;&#1080;&#1081;_&#1073;&#1072;&#1079;&#1086;&#1092;&#1080;&#1083;&#1100;&#1085;&#1099;&#1081;_&#1083;&#1077;&#1081;&#1082;&#1086;&#1079;&amp;action=edit&amp;redlink=1" TargetMode="External"/><Relationship Id="rId10" Type="http://schemas.openxmlformats.org/officeDocument/2006/relationships/hyperlink" Target="http://ru.wikipedia.org/w/index.php?title=&#1061;&#1088;&#1086;&#1085;&#1080;&#1095;&#1077;&#1089;&#1082;&#1080;&#1081;_&#1073;&#1072;&#1079;&#1086;&#1092;&#1080;&#1083;&#1100;&#1085;&#1099;&#1081;_&#1083;&#1077;&#1081;&#1082;&#1086;&#1079;&amp;action=edit&amp;redlink=1" TargetMode="External"/><Relationship Id="rId11" Type="http://schemas.openxmlformats.org/officeDocument/2006/relationships/hyperlink" Target="http://ru.wikipedia.org/w/index.php?title=&#1061;&#1088;&#1086;&#1085;&#1080;&#1095;&#1077;&#1089;&#1082;&#1080;&#1081;_&#1073;&#1072;&#1079;&#1086;&#1092;&#1080;&#1083;&#1100;&#1085;&#1099;&#1081;_&#1083;&#1077;&#1081;&#1082;&#1086;&#1079;&amp;action=edit&amp;redlink=1" TargetMode="External"/><Relationship Id="rId12" Type="http://schemas.openxmlformats.org/officeDocument/2006/relationships/hyperlink" Target="http://ru.wikipedia.org/w/index.php?title=&#1052;&#1080;&#1077;&#1083;&#1086;&#1089;&#1082;&#1083;&#1077;&#1088;&#1086;&#1079;&amp;action=edit&amp;redlink=1" TargetMode="External"/><Relationship Id="rId13" Type="http://schemas.openxmlformats.org/officeDocument/2006/relationships/hyperlink" Target="http://ru.wikipedia.org/w/index.php?title=&#1069;&#1089;&#1089;&#1077;&#1085;&#1094;&#1080;&#1072;&#1083;&#1100;&#1085;&#1072;&#1103;_&#1090;&#1088;&#1086;&#1084;&#1073;&#1086;&#1094;&#1080;&#1090;&#1077;&#1084;&#1080;&#1103;&amp;action=edit&amp;redlink=1" TargetMode="External"/><Relationship Id="rId14" Type="http://schemas.openxmlformats.org/officeDocument/2006/relationships/hyperlink" Target="http://ru.wikipedia.org/w/index.php?title=&#1069;&#1089;&#1089;&#1077;&#1085;&#1094;&#1080;&#1072;&#1083;&#1100;&#1085;&#1072;&#1103;_&#1090;&#1088;&#1086;&#1084;&#1073;&#1086;&#1094;&#1080;&#1090;&#1077;&#1084;&#1080;&#1103;&amp;action=edit&amp;redlink=1" TargetMode="External"/><Relationship Id="rId15" Type="http://schemas.openxmlformats.org/officeDocument/2006/relationships/hyperlink" Target="http://ru.wikipedia.org/wiki/&#1061;&#1088;&#1086;&#1085;&#1080;&#1095;&#1077;&#1089;&#1082;&#1080;&#1081;_&#1083;&#1080;&#1084;&#1092;&#1086;&#1083;&#1077;&#1081;&#1082;&#1086;&#1079;" TargetMode="External"/><Relationship Id="rId16" Type="http://schemas.openxmlformats.org/officeDocument/2006/relationships/hyperlink" Target="http://ru.wikipedia.org/wiki/&#1061;&#1088;&#1086;&#1085;&#1080;&#1095;&#1077;&#1089;&#1082;&#1080;&#1081;_&#1083;&#1080;&#1084;&#1092;&#1086;&#1083;&#1077;&#1081;&#1082;&#1086;&#1079;" TargetMode="External"/><Relationship Id="rId17" Type="http://schemas.openxmlformats.org/officeDocument/2006/relationships/hyperlink" Target="http://ru.wikipedia.org/wiki/&#1052;&#1080;&#1077;&#1083;&#1086;&#1084;&#1085;&#1072;&#1103;_&#1073;&#1086;&#1083;&#1077;&#1079;&#1085;&#1100;" TargetMode="External"/><Relationship Id="rId18" Type="http://schemas.openxmlformats.org/officeDocument/2006/relationships/hyperlink" Target="http://ru.wikipedia.org/wiki/&#1052;&#1080;&#1077;&#1083;&#1086;&#1084;&#1085;&#1072;&#1103;_&#1073;&#1086;&#1083;&#1077;&#1079;&#1085;&#1100;" TargetMode="External"/><Relationship Id="rId19" Type="http://schemas.openxmlformats.org/officeDocument/2006/relationships/hyperlink" Target="http://ru.wikipedia.org/w/index.php?title=&#1055;&#1077;&#1088;&#1074;&#1080;&#1095;&#1085;&#1072;&#1103;_&#1084;&#1072;&#1082;&#1088;&#1086;&#1075;&#1083;&#1086;&#1073;&#1091;&#1083;&#1080;&#1085;&#1077;&#1084;&#1080;&#1103;_&#1042;&#1072;&#1083;&#1100;&#1076;&#1077;&#1085;&#1089;&#1090;&#1088;&#1077;&#1084;&#1072;&amp;action=edit&amp;redlink=1" TargetMode="External"/><Relationship Id="rId20" Type="http://schemas.openxmlformats.org/officeDocument/2006/relationships/hyperlink" Target="http://ru.wikipedia.org/w/index.php?title=&#1055;&#1077;&#1088;&#1074;&#1080;&#1095;&#1085;&#1072;&#1103;_&#1084;&#1072;&#1082;&#1088;&#1086;&#1075;&#1083;&#1086;&#1073;&#1091;&#1083;&#1080;&#1085;&#1077;&#1084;&#1080;&#1103;_&#1042;&#1072;&#1083;&#1100;&#1076;&#1077;&#1085;&#1089;&#1090;&#1088;&#1077;&#1084;&#1072;&amp;action=edit&amp;redlink=1" TargetMode="External"/><Relationship Id="rId21" Type="http://schemas.openxmlformats.org/officeDocument/2006/relationships/hyperlink" Target="http://ru.wikipedia.org/w/index.php?title=&#1055;&#1077;&#1088;&#1074;&#1080;&#1095;&#1085;&#1072;&#1103;_&#1084;&#1072;&#1082;&#1088;&#1086;&#1075;&#1083;&#1086;&#1073;&#1091;&#1083;&#1080;&#1085;&#1077;&#1084;&#1080;&#1103;_&#1042;&#1072;&#1083;&#1100;&#1076;&#1077;&#1085;&#1089;&#1090;&#1088;&#1077;&#1084;&#1072;&amp;action=edit&amp;redlink=1" TargetMode="External"/><Relationship Id="rId22" Type="http://schemas.openxmlformats.org/officeDocument/2006/relationships/hyperlink" Target="http://ru.wikipedia.org/w/index.php?title=&#1055;&#1077;&#1088;&#1074;&#1080;&#1095;&#1085;&#1072;&#1103;_&#1084;&#1072;&#1082;&#1088;&#1086;&#1075;&#1083;&#1086;&#1073;&#1091;&#1083;&#1080;&#1085;&#1077;&#1084;&#1080;&#1103;_&#1042;&#1072;&#1083;&#1100;&#1076;&#1077;&#1085;&#1089;&#1090;&#1088;&#1077;&#1084;&#1072;&amp;action=edit&amp;redlink=1" TargetMode="External"/><Relationship Id="rId23" Type="http://schemas.openxmlformats.org/officeDocument/2006/relationships/hyperlink" Target="http://ru.wikipedia.org/w/index.php?title=&#1041;&#1086;&#1083;&#1077;&#1079;&#1085;&#1100;_&#1090;&#1103;&#1078;&#1077;&#1083;&#1099;&#1093;_&#1094;&#1077;&#1087;&#1077;&#1081;_&#1060;&#1088;&#1072;&#1085;&#1082;&#1083;&#1080;&#1085;&#1072;&amp;action=edit&amp;redlink=1" TargetMode="External"/><Relationship Id="rId24" Type="http://schemas.openxmlformats.org/officeDocument/2006/relationships/hyperlink" Target="http://ru.wikipedia.org/w/index.php?title=&#1051;&#1080;&#1084;&#1092;&#1086;&#1084;&#1072;&#1090;&#1086;&#1079;_&#1082;&#1086;&#1078;&#1080;&amp;action=edit&amp;redlink=1" TargetMode="External"/><Relationship Id="rId25" Type="http://schemas.openxmlformats.org/officeDocument/2006/relationships/hyperlink" Target="http://ru.wikipedia.org/w/index.php?title=&#1051;&#1080;&#1084;&#1092;&#1086;&#1084;&#1072;&#1090;&#1086;&#1079;_&#1082;&#1086;&#1078;&#1080;&amp;action=edit&amp;redlink=1" TargetMode="External"/><Relationship Id="rId26" Type="http://schemas.openxmlformats.org/officeDocument/2006/relationships/hyperlink" Target="http://ru.wikipedia.org/w/index.php?title=&#1041;&#1086;&#1083;&#1077;&#1079;&#1085;&#1100;_&#1057;&#1077;&#1079;&#1072;&#1088;&#1080;&amp;action=edit&amp;redlink=1" TargetMode="External"/><Relationship Id="rId27" Type="http://schemas.openxmlformats.org/officeDocument/2006/relationships/hyperlink" Target="http://ru.wikipedia.org/w/index.php?title=&#1041;&#1086;&#1083;&#1077;&#1079;&#1085;&#1100;_&#1057;&#1077;&#1079;&#1072;&#1088;&#1080;&amp;action=edit&amp;redlink=1" TargetMode="External"/><Relationship Id="rId28" Type="http://schemas.openxmlformats.org/officeDocument/2006/relationships/hyperlink" Target="http://ru.wikipedia.org/w/index.php?title=&#1061;&#1088;&#1086;&#1085;&#1080;&#1095;&#1077;&#1089;&#1082;&#1080;&#1081;_&#1084;&#1086;&#1085;&#1086;&#1094;&#1080;&#1090;&#1072;&#1088;&#1085;&#1099;&#1081;_&#1083;&#1077;&#1081;&#1082;&#1086;&#1079;&amp;action=edit&amp;redlink=1" TargetMode="External"/><Relationship Id="rId29" Type="http://schemas.openxmlformats.org/officeDocument/2006/relationships/hyperlink" Target="http://ru.wikipedia.org/w/index.php?title=&#1061;&#1088;&#1086;&#1085;&#1080;&#1095;&#1077;&#1089;&#1082;&#1080;&#1081;_&#1084;&#1080;&#1077;&#1083;&#1086;&#1084;&#1086;&#1085;&#1086;&#1094;&#1080;&#1090;&#1072;&#1088;&#1085;&#1099;&#1081;_&#1083;&#1077;&#1081;&#1082;&#1086;&#1079;&amp;action=edit&amp;redlink=1" TargetMode="External"/><Relationship Id="rId30" Type="http://schemas.openxmlformats.org/officeDocument/2006/relationships/hyperlink" Target="http://ru.wikipedia.org/w/index.php?title=&#1061;&#1088;&#1086;&#1085;&#1080;&#1095;&#1077;&#1089;&#1082;&#1080;&#1081;_&#1084;&#1080;&#1077;&#1083;&#1086;&#1084;&#1086;&#1085;&#1086;&#1094;&#1080;&#1090;&#1072;&#1088;&#1085;&#1099;&#1081;_&#1083;&#1077;&#1081;&#1082;&#1086;&#1079;&amp;action=edit&amp;redlink=1" TargetMode="External"/><Relationship Id="rId31" Type="http://schemas.openxmlformats.org/officeDocument/2006/relationships/hyperlink" Target="http://ru.wikipedia.org/w/index.php?title=&#1061;&#1088;&#1086;&#1085;&#1080;&#1095;&#1077;&#1089;&#1082;&#1080;&#1081;_&#1084;&#1080;&#1077;&#1083;&#1086;&#1084;&#1086;&#1085;&#1086;&#1094;&#1080;&#1090;&#1072;&#1088;&#1085;&#1099;&#1081;_&#1083;&#1077;&#1081;&#1082;&#1086;&#1079;&amp;action=edit&amp;redlink=1" TargetMode="External"/><Relationship Id="rId32" Type="http://schemas.openxmlformats.org/officeDocument/2006/relationships/hyperlink" Target="http://ru.wikipedia.org/wiki/&#1043;&#1080;&#1089;&#1090;&#1080;&#1086;&#1094;&#1080;&#1090;&#1086;&#1079;_&#1061;" TargetMode="External"/><Relationship Id="rId33" Type="http://schemas.openxmlformats.org/officeDocument/2006/relationships/hyperlink" Target="http://ru.wikipedia.org/wiki/&#1043;&#1080;&#1089;&#1090;&#1080;&#1086;&#1094;&#1080;&#1090;&#1086;&#1079;_&#1061;" TargetMode="External"/><Relationship Id="rId3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3;&#1072;&#1089;&#1090;&#1099;&amp;action=edit&amp;redlink=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7;&#1084;&#1080;&#1103;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ymptoms_of_leukemia_ru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72;&#1089;&#1090;&#1072;&#1079;&#1080;&#1088;&#1086;&#1074;&#1072;&#1085;&#1080;&#1077;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90;&#1088;&#1099;&#1077;_&#1083;&#1077;&#1081;&#1082;&#1086;&#1079;&#1099;" TargetMode="External"/><Relationship Id="rId2" Type="http://schemas.openxmlformats.org/officeDocument/2006/relationships/hyperlink" Target="http://ru.wikipedia.org/wiki/&#1061;&#1088;&#1086;&#1085;&#1080;&#1095;&#1077;&#1089;&#1082;&#1080;&#1077;_&#1083;&#1077;&#1081;&#1082;&#1086;&#1079;&#1099;" TargetMode="External"/><Relationship Id="rId3" Type="http://schemas.openxmlformats.org/officeDocument/2006/relationships/hyperlink" Target="http://ru.wikipedia.org/w/index.php?title=&#1062;&#1080;&#1090;&#1086;&#1075;&#1077;&#1085;&#1077;&#1079;&amp;action=edit&amp;redlink=1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i="1" lang="ru-RU" sz="7200" spc="-1" strike="noStrike">
                <a:solidFill>
                  <a:srgbClr val="ffffb7"/>
                </a:solidFill>
                <a:latin typeface="Arial Black"/>
              </a:rPr>
              <a:t>Лейкоз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стрые лейкоз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цитогенезу подразделяются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мф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ел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еломон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ритромиел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гакариобласт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фференцирова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7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Хронические лейко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ы лейкозам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елоцитарного происхожд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миелоцитарный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нейтрофильный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хронический эозинофильный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базофильный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миелосклер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ритремия/истинная полицитем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эссенциальная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 тромбоците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мфоцитарного происхожд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лимфо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протеинемические лейкоз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миеломная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 болез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первичная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макроглобулинемия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Вальденстр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болезнь тяжелых цепей Франкл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лимфоматоз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 кож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болезнь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Сеза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цитарного происхожд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хронический моноцитарный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хронический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миеломоноцитарный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 лейк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гистиоцитоз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точки зрения данной классификации можно говорить об относительном переходе хронических лейкозов в острые лейкозы при продолжающемся, длительном действии этиологических факторов (действие вирусов, ионизирующего излучения, химических в-в и т. д.). То есть кроме нарушений клеток-предшественниц миело- или лимфопоэза развиваются нарушения, характерные для острых лейкозов; происходит «осложнение» течения хронического лейко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По общему числу лейкоцитов и наличию бластных клеток в периферической кров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емические (более 50—80×109/л лейкоцитов, в том числе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бласты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ублейкемические (50—80×109/л лейкоцитов, в том числе бласты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енические (содержание лейкоцитов в периферической крови ниже нормы, но есть бласты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ейкемические (содержание лейкоцитов в периферической крови ниже нормы, бласты отсутствую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Морфологические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обенности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 высоком блоке дифференцировки лейкозные клетки могут напоминать стволовые и бластные клетки первых четырёх классов клеток-предшественниц. Поэтому по степени дифференцировки эти лейкозы называют бластными и недифференцированными. Поскольку они протекают остро, то можно говорить, что острые лейкозы — это бластные и недифференцированные лейко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 низком блоке дифференцировки лейкозные клетки напоминают процитарные и цитарные клетки-предшественницы, лейкозы протекают менее злокачественно, хронически и называются цита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Основные клинические признаки острых лейкозов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ольшое количество бластных клеток и их преимущество (более 30 %, чаще 60-90 %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лейкемический провал» — исчезновение промежуточных форм клеток на фоне большого количества блас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дновременное наличие абазофилии и анэозинофил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стропрогрессирующая анем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Основные клинические признаки хронических лейкозов (признаки те же, но с точностью наоборот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большое количество бластных клеток или их отсутствие (менее 30 %, чаще 1-2 %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сутствие «лейкемического провала», то есть наличие промежуточных форм клеток (промиелоциты и миелоцит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азофильно-эозинофильная ассоциация, то есть одновременное наличие базофилии и эозинофил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дленнопрогрессирующая анемия с увеличением скорости своего развития в период своего обостр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Рисунок 20" descr="Хронический миелогенный лейко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йкоз (от греческого leukós — белый) (далее по тексту — “Л.”) — это лейкемия, белокровие, опухолевое системное заболевание кроветворной ткани. При Л. происходит нарушение кроветворения, выражающееся в разрастании незрелых патологических клеточных элементов как в собственно кроветворных органах, так и в других органах (почках, стенке сосудов, по ходу нервов, в коже и т. п.). Л. — редкое заболевание, и встречается 1 на 50 тысяч челове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Arial Black"/>
              </a:rPr>
              <a:t>Течение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лейкозе опухолевая ткань первоначально разрастается в месте локализации костного мозга и постепенно замещает нормальные ростки кроветворения. В результате этого процесса у больных лейкозом закономерно развиваются различные варианты цитопений —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анем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ромбоцитопения, лимфоцитопения, гранулоцитопения, что приводит к повышенной кровоточивости, кровоизлияниям, подавлению иммунитета с присоединением инфекционных осложнен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зличают спонтанные лейкозы, причина которых не установлена, радиационные (лучевые) Л., возникающие под воздействием ионизирующих излучений, и Л., возникающие под влиянием некоторых химических, так называемых лейкозогенных (бластомогенных), веществ. У ряда животных (кур, мышей, крыс, собак, кошек, крупного рогатого скота), больных Л., удалось выделить лейкозогенные вирусы. Вирусная этиология Л. человека не доказана. В зависимости от клеточной морфологии (преобладания тех или иных элементов) Л. разделяют на ретикулёз, гемоцитобластоз, миелолейкоз, эритромиелоз, мегакариоцитарный Л.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5215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зависимости от степени увеличения общего числа лейкоцитов и «наводнения» крови молодыми, патологическими клетками (в норме не встречающимися в крови) различают следующие формы Л.: лейкемические (количество патологических лейкоцитов в 1 мм3 крови достигает десятков, иногда сотен тысяч и даже миллионов вместо 6-10 тысяч в норме), сублейкемические (количество патологических лейкоцитов не превышает 15 — 25 тысяч в 1 мм3), лейкопенические (количество лейкоцитов в крови уменьшено, но при этом могут быть патологические, «лейкозные» клетки) и а лейкемические (количество лейкоцитов в крови не увеличено, и при этом совершенно не отмечается молодых, патологических форм). Алейкемические Л., протекающие с выраженным опухолевым ростом, принято обозначать как ретикулёз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5" descr="http://upload.wikimedia.org/wikipedia/commons/thumb/e/e9/Symptoms_of_leukemia_ru.png/300px-Symptoms_of_leukemia_ru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0"/>
            <a:ext cx="83170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етастазировани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 лейкозе сопровождается появлением лейкозных инфильтратов в различных органах — печени, селезенке, лимфатических узлах и др. В органах могут развиваться изменения, обусловленные обтурацией сосудов опухолевыми клетками — инфаркты, язвенно-некротические осло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 Black"/>
              </a:rPr>
              <a:t>Принципы классификации лейкозов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но выделить 5 основных принципов классифик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характеру т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стр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з незрелых клеток (бластов),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хрониче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, созревающие и зрелые кле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ко необходимо отметить, что острый лейкоз никогда не переходит в хронический, а хронический никогда не обостряется — таким образом, термины «острый» и «хронический» используются только из-за удобства; значение этих терминов в гематологии отличается от значения в других медицинских дисципли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степени дифференцировки опухолевых кл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ифференцированн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астн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тарные лейкоз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ответствии с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цитоген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 классификация основывается на представлениях о кроветвор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51:03Z</dcterms:created>
  <dc:creator>Paradise</dc:creator>
  <dc:description/>
  <dc:language>en-US</dc:language>
  <cp:lastModifiedBy>Paradise</cp:lastModifiedBy>
  <dcterms:modified xsi:type="dcterms:W3CDTF">2011-10-26T20:09:37Z</dcterms:modified>
  <cp:revision>2</cp:revision>
  <dc:subject/>
  <dc:title>      Лейкоз</dc:title>
</cp:coreProperties>
</file>